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681A-B774-488E-8CA5-5C18590D3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231B-78FE-4D40-92C9-598522866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0EFD-E422-497E-8726-386761C3BB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9AF5-30A4-4A68-912B-BB2CCDCDB2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809A-5BB5-47BF-9333-97E75408CA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DEB2-9CF6-4D7E-8734-BF48AACB80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4716-EC1D-46F3-8F3C-6C3A99FEB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AED1-FA9A-4B3F-B77C-86AA34299A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E0AB-CCE3-4C37-81CF-C134AE8061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722F-9858-499D-8BD7-0DBEF597DA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5E5F-AFFF-4B2F-B326-D37EDA43F0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6328-10B3-4F3F-A707-81071EA27D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D9CD-9F35-444B-A9FD-D969BD8CE6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F644F-1B67-4F1C-A957-63C0372739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4EA4-E31C-454D-93C8-9B3CA05C2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E144-6259-48C3-B286-77F6538B3A2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D16E-8DAF-492F-AF38-BB14A3EBDB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A9FE-406E-4BC5-83E9-31B48B4050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39E6-6D1B-43DA-8EE1-E53E1F978D6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E1C8-8FA4-4745-93AA-8B39AEB2C4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EEF6-AEC5-4AD5-B757-9A7BBD7566A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E2B48-B21F-4A65-92B6-76FB991AC43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74BA-169D-47A4-9B05-E2538D1DD3A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381F-03F6-4DDE-9E75-4C3845986CA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D2FA-CBAF-4827-BB83-D1CFB1B15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D771-850E-4189-8629-1B1FB2721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1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96BF-403F-426E-A3AB-47DC6B46C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2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G:\A\4\Personnes\herrypa\06 - OTHER\NEAR\Footer Box NEAR.jpg"/>
          <p:cNvPicPr/>
          <p:nvPr/>
        </p:nvPicPr>
        <p:blipFill>
          <a:blip r:embed="rId3"/>
          <a:stretch/>
        </p:blipFill>
        <p:spPr>
          <a:xfrm>
            <a:off x="4211640" y="6297480"/>
            <a:ext cx="8413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9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90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3"/>
          <a:stretch/>
        </p:blipFill>
        <p:spPr>
          <a:xfrm>
            <a:off x="3754440" y="30636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6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009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Click to edit the outline text format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1" marL="800280" indent="-343080">
              <a:spcBef>
                <a:spcPts val="499"/>
              </a:spcBef>
              <a:buClr>
                <a:srgbClr val="0064fa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con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2" marL="1200240" indent="-285840">
              <a:spcBef>
                <a:spcPts val="499"/>
              </a:spcBef>
              <a:buClr>
                <a:srgbClr val="0096fa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Third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our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4" marL="574560" indent="-342720">
              <a:spcBef>
                <a:spcPts val="499"/>
              </a:spcBef>
              <a:buClr>
                <a:srgbClr val="0099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Fif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5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ix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  <a:p>
            <a:pPr lvl="6" marL="574560" indent="-34272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4fa"/>
                </a:solidFill>
                <a:latin typeface="Verdana"/>
              </a:rPr>
              <a:t>Seventh Outline Level</a:t>
            </a:r>
            <a:endParaRPr b="0" i="1" lang="en-US" sz="2000" spc="-1" strike="noStrike">
              <a:solidFill>
                <a:srgbClr val="0064f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f2f2f2"/>
              </a:gs>
            </a:gsLst>
            <a:lin ang="1782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3848040"/>
            <a:ext cx="9144000" cy="3008520"/>
          </a:xfrm>
          <a:prstGeom prst="rect">
            <a:avLst/>
          </a:prstGeom>
          <a:solidFill>
            <a:srgbClr val="f2f2f2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7" name="Straight Connector 8" descr=""/>
          <p:cNvPicPr/>
          <p:nvPr/>
        </p:nvPicPr>
        <p:blipFill>
          <a:blip r:embed="rId2"/>
          <a:stretch/>
        </p:blipFill>
        <p:spPr>
          <a:xfrm>
            <a:off x="-128520" y="3255840"/>
            <a:ext cx="9394920" cy="109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Num" idx="2"/>
          </p:nvPr>
        </p:nvSpPr>
        <p:spPr>
          <a:xfrm>
            <a:off x="3297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0ED3-D209-4432-A038-398793FC44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250920" y="1916280"/>
            <a:ext cx="547344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astanak Foruma za koordinaciju donatora,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30. 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ožujak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7.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Srednjo</a:t>
            </a:r>
            <a:r>
              <a:rPr b="1" lang="sr-Latn-BA" sz="2000" spc="-1" strike="noStrike">
                <a:solidFill>
                  <a:srgbClr val="ffffff"/>
                </a:solidFill>
                <a:latin typeface="Verdana"/>
              </a:rPr>
              <a:t>ročni pregled Indikativnog strateškog dokumenta (ISD) u sklopu IPA II za BiH, </a:t>
            </a:r>
            <a:r>
              <a:rPr b="1" lang="fr-BE" sz="2000" spc="-1" strike="noStrike">
                <a:solidFill>
                  <a:srgbClr val="ffffff"/>
                </a:solidFill>
                <a:latin typeface="Verdana"/>
              </a:rPr>
              <a:t>2014-2020.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780000" y="1484280"/>
            <a:ext cx="5256000" cy="523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osnov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a integriranog upravljanja granicama provodit će se kroz poboljšane kapacitete i bolju prekograničnu, međuagencijsku i međunarodnu suradnju i koordinaciju, kao i kroz bolju politiku/proces analize rizika, sustave prikupljanja i razmjene podata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zaštita temeljnih ljudskih prav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pr. sloboda govora, rodna ravnopravnost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ava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LGBTI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l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anjina kao što su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Rom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zbjeglice, raseljeni i povratnic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 dje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redi ombudsmena bit će unaprijeđeni i imati bolje mjesto za obavljanje svog mandat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Zaštita i profesionalni standardi novinara bit će unaprijeđeni a tehnički kapaciteti medija će se poboljšati.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koliš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lima i energij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legislativa o okolišu, klimatskim promjenama i energiji 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dalje su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suglašene sa pravnom stečevinom EU i Ugovorom o energetskoj zajednici, te podržavaju Pariški sporazum o klimatskim promjenama iz 2015. o povećanju izdvajanja za borbu protiv klimatskih promjena na glob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institucijski kapaciteti odgovarajućih ministarstava, regulatornih tijela i drugih aktera u sektorima za zaštitu  okoliša i energi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perativan je funkcionalan mehanizam (Jedinstvena lista prioritetnih infrastrukturnih projekata) za određivanje prioritetnih investi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e spremna pridružiti se Mehanizmu civilne zaštite u EU kao rezultat unaprijeđenih sustava kontrole rizika kod velikih nesreća i stanja priprav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Transport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litike i zakoni u oblasti transporta dodatno usuglašeni sa zakonima i najboljom praksom EU, radi potpore Pariškom sporazumu o klimatskim promjenama iz 2015. i povećanja izdvajanja za borbu protiv klimatskih promj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astavak reformi u oblasti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ransport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sa naglaskom na sektor željeznic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vesticije u transportnu infrastrukturu unaprijeđene sukladno indikativnom proširenju sveobuhvatne/temeljne Trans-europske transportne mreže na prioritete razvojnog plana i Agendu povezanosti Zapadnog Balka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stvaren napredak u provedbi tehničkih standarda i reformskih mjera poveziv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poslovna klima uključujući pristup financijama i novim poslovima kroz lokalne MSP-ove i bolje kapacitete za planiranje na lokalnoj razi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a konkurentnost MSP poduzeća u strateškim sektorima orijentiranim na izvoz (npr. drvoprerađivački, agro-prehrambeni, metalski), čime se daje potpora BiH u provedbi međunarodnih obveza iz SSP-a i drugih sporazuma (CEFTA, STO, itd)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BiH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mjenjuje dosljednu vanjskotrgovinsku politiku koja je sukladna njenim međunarodnim obvezama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S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P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CEFTA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TO)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Institucijski kapaciteti na polju konkurentnosti i državne pomoći operativni i zakoni primijenjeni i sproveden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i kapaciteti za održiv razvitak sektora turiz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Konkurentnos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inovaci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poljoprivreda i ruralni razvitak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2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eđenje konkurentnosti poljoprivrednog i vezanih poslovnih sektora u BiH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gr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-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ehrambeni i sektor ribarst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ao i kvaliteta života u ruralnim sredinam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čime se osigurava učinak dodatne vrijednosti provedbe SSP-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ibližavanje fondovima EU za ruralni razvitak u sklopu IPA putem izgradnje sustava upravljanja i kontrole sukladno propisima E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Obrazov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 zapošljavanje i socijalne politik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manjena nezaposlenost, posebice mladih, žena, dugoročno nezaposlenih i lica sa invaliditet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kroz institucijsku reformu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 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aktivne mjere na tržištu rada i posebne mjere za olakšanje prelaska iz škole na posao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većani kapaciteti biroa i zavoda za zapošljavan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brazovni sektor bit će bolje prilagođen potrebama tržišta rad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1800" spc="-1" strike="noStrike">
                <a:solidFill>
                  <a:srgbClr val="ff0000"/>
                </a:solidFill>
                <a:latin typeface="Verdana"/>
              </a:rPr>
              <a:t>Inkluzivno obrazovanje bit će uvedeno u škole kako bi se  omogućio pristup ugroženih i siromašnih lica obrazovanju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t će se održivost sustava socijalne zaštite zahvaljujući koordiniranom pristupu utemeljenom na potrebama, reformiranom financiranju socijalnih usluga i ujednačenoj potpori ugroženima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vedba akcijskog plana za Rome bit će unaprijeđe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Teritorijalna i regionalna suradnj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Kontinuirana potpora kroz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: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Crnog Gor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rogram prekogranične suradnje sa Srbijom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Trilaterani prekogranični program između Bosne i Hercegovin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 Hrvatske i Crne Gor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đudržavni program u Dunavskoj regij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Mediteranski međudržavni program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Jadransko-jonski program 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nov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   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539640" y="2438280"/>
          <a:ext cx="7920000" cy="3095640"/>
        </p:xfrm>
        <a:graphic>
          <a:graphicData uri="http://schemas.openxmlformats.org/drawingml/2006/table">
            <a:tbl>
              <a:tblPr/>
              <a:tblGrid>
                <a:gridCol w="4203720"/>
                <a:gridCol w="787320"/>
                <a:gridCol w="785880"/>
                <a:gridCol w="720720"/>
                <a:gridCol w="711360"/>
                <a:gridCol w="711000"/>
              </a:tblGrid>
              <a:tr h="537480">
                <a:tc>
                  <a:txBody>
                    <a:bodyPr lIns="68400" rIns="68400" tIns="0" bIns="0" anchor="ctr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  <a:p>
                      <a:pPr marL="4572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osna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r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govina 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5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1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2018-20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467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. Reform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 koje se pripremaju za članstvo u Uniji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row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?</a:t>
                      </a:r>
                      <a:endParaRPr b="1" lang="en-US" sz="3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mokracija i upravljan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ladavina prava i temeljna prav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. Socio-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konomski i regionalni razvitak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nkurentnost i inovacije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.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jalne politik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razovan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traživački rad i inovacije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micanje rodne ravnopravnosti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 razvitak ljudskih resursa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marL="2286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litike obrazovanja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, </a:t>
                      </a: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zapošljavanja i društvene politike 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2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BA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KUPNO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1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2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r>
                        <a:rPr b="0" lang="sr-Latn-B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en-GB" sz="11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[3]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d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6174000" y="1909800"/>
            <a:ext cx="18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600"/>
            </a:b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-158040" y="5827680"/>
            <a:ext cx="9396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1" action="ppaction://hlinksldjump"/>
              </a:rPr>
              <a:t>[1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oš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1 mili</a:t>
            </a:r>
            <a:r>
              <a:rPr b="1" lang="bs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jun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eura dodijeljeno je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BiH  201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u  sklopu Posebnih mjera za oporavak i kontrolu rizika od poplav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2" action="ppaction://hlinksldjump"/>
              </a:rPr>
              <a:t>[2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Svake godine dodatna izdvajanja za Potporu civilnom društvu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u sklopu višedržavnog programa data su Bosni i Hercegovini</a:t>
            </a:r>
            <a:r>
              <a:rPr b="1" lang="en-US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Naime,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4, 2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2015, 3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6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i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4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,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5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milijuna eura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2017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 baseline="30000">
                <a:solidFill>
                  <a:srgbClr val="009999"/>
                </a:solidFill>
                <a:uFillTx/>
                <a:latin typeface="Times New Roman"/>
                <a:ea typeface="Arial Unicode MS"/>
                <a:hlinkClick r:id="rId3" action="ppaction://hlinksldjump"/>
              </a:rPr>
              <a:t>[3]</a:t>
            </a:r>
            <a:r>
              <a:rPr b="1" lang="en-GB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Dodatnih 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10 </a:t>
            </a:r>
            <a:r>
              <a:rPr b="1" lang="sr-Latn-BA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milijuna eura izdvojeno je 2017. za Bosnu i Hercegovinu za Regionalni program stambenog zbrinjavanja koji se provodi u sklopu višedržavnog programa</a:t>
            </a:r>
            <a:r>
              <a:rPr b="1" lang="lv-LV" sz="1000" spc="-1" strike="noStrike">
                <a:solidFill>
                  <a:srgbClr val="161645"/>
                </a:solidFill>
                <a:latin typeface="Times New Roman"/>
                <a:ea typeface="Arial Unicode MS"/>
              </a:rPr>
              <a:t>. 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99"/>
                </a:solidFill>
                <a:latin typeface="Verdana"/>
                <a:ea typeface="Arial"/>
              </a:rPr>
              <a:t>Trenutačno stanje novčanih izdvajanja po sektorima IPA II za 2014 – 2017. u milijunima eura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393840" y="1608120"/>
            <a:ext cx="8210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91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četn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stojeć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ključuje samo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4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9 se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o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1.Demo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a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cija i upravljanj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2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3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Konkurentnost i inovaci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je lokalnog razvitka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lvl="1" marL="91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4.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Obrazovanj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000" spc="-1" strike="noStrike">
                <a:solidFill>
                  <a:srgbClr val="000000"/>
                </a:solidFill>
                <a:latin typeface="Verdana"/>
                <a:ea typeface="Arial"/>
              </a:rPr>
              <a:t>zapošljavanje i socijalne politik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marL="7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uduće pretpostavke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evi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diran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razdoblj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4-2020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mogućava pokrivanje više od 4 trenutačno podržana sektor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ao što 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nergija.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.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  <a:ea typeface="Arial"/>
              </a:rPr>
              <a:t>---T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93840" y="1341360"/>
            <a:ext cx="829296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(1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mjernice za srednjoročni pregle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R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ipremlje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om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i krug konzultacija o SRP-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 institucijama i organizacijama civilnog društva korisnicama u BiH održan u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rujn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u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i krug konzultacija o SRP-u ISD-a sa institucijama i organizacijama civilnog društva korisnicama 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BiH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drža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</a:t>
            </a:r>
            <a:r>
              <a:rPr b="0" lang="bs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m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906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11040" y="1413000"/>
            <a:ext cx="8293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2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vu verziju revidiranog ISD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2014-2020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na temelju doprinosa datog u 2 kruga konzultaci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E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/DG NEAR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(Generalna direkcija za proširenje) osigurala j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em 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Interne konzultacije u sklop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i konzultacije sa odgovornim Gen. direkcija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d kra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tudenog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 d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polovine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iječnja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ruga verzija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2014-2020.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za strateški dijalog sa Jedinicom za kontrolu kvalitet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DG NEAR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-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žujak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proceduralni aspekti (nast.)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Vremenski slijed proces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(3)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trateški dijalog sa Parlamentom EU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panj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zultacije između službi (KIS) o pokretanju revidiranog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S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-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srpanj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2016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Sastanak Odbor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IPA II (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mišljenje država članic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) 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listopad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 2017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.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roces usvajanj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– </a:t>
            </a:r>
            <a:r>
              <a:rPr b="0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kraj 2017. godin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  <a:ea typeface="Arial"/>
              </a:rPr>
              <a:t>Srednjoročni pregled ISD-a za BiH,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  <a:ea typeface="Arial"/>
              </a:rPr>
              <a:t>pokriveni sadržaj – sektori 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4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Obuhvaćeni sektori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Demokracija i upravljanj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Vladavina prava i temeljna prava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koliš, klima i energija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Transport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Konkurentnost, inovaci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poljoprivreda i ruralni razvitakl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Obrazovanje, zapošljavanje i socijalne politike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Verdana"/>
                <a:ea typeface="Arial"/>
              </a:rPr>
              <a:t>Teritorijalna i regionalna suradnj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Demokracija i upravljanj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Unaprijeđeni kapaciteti državne uprave radi učinkovitijeg, djelotvornijeg i odgovor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nije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g pružanja javnih usluga građanima i firmama, uključujući dobre administrativne procedure i usluge elektroničkog upravljan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Strateški okvir upravljanja javnim finanscjama u cijeloj zemlji, uključujući sustave koordinacije i praćenja na temelju rezultata, operativan je i primjenjuje s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arlamenti u BiH imat će neophodne kapacitete za potporu procesu europskih integracija zemlje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uzdanija makroekonomska, poslovna, socijalna i demografska, te višedomenska statistika, statistički rezultati, financijska i poljoprivredna statistik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olja suradnja između organizacija civilnog društva i javnih institucij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 rot="16200000">
            <a:off x="5940360" y="3644640"/>
            <a:ext cx="5867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93840" y="1413000"/>
            <a:ext cx="8292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99"/>
                </a:solidFill>
                <a:latin typeface="Verdana"/>
              </a:rPr>
              <a:t>Srednjoročni pregled ISD-a za BiH 2014-2020, </a:t>
            </a:r>
            <a:r>
              <a:rPr b="0" i="1" sz="2800" spc="-1" strike="noStrike">
                <a:solidFill>
                  <a:srgbClr val="000099"/>
                </a:solidFill>
                <a:latin typeface="Verdana"/>
              </a:rPr>
              <a:t>sadržaj – </a:t>
            </a:r>
            <a:r>
              <a:rPr b="0" i="1" sz="2800" spc="-1" strike="noStrike">
                <a:solidFill>
                  <a:srgbClr val="ff0000"/>
                </a:solidFill>
                <a:latin typeface="Verdana"/>
              </a:rPr>
              <a:t>glavni očekivani rezultati po sektorima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sr-Latn-BA" sz="2000" spc="-1" strike="noStrike">
                <a:solidFill>
                  <a:srgbClr val="000000"/>
                </a:solidFill>
                <a:latin typeface="Verdana"/>
              </a:rPr>
              <a:t>Vladavina prava i temeljna prava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(1):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Poboljšana učinkovitost u pravosuđu, posebice putem eliminacije neriješenih slučajeva u svezi komunalnih uslug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Veća neovisnost pravosuđa i bolji unaprijeđeni mehanizmi odgovornosti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Odgovorne domaće forenzičke institucije bit će unaprijeđene, prije svega za proces identifikacije nestalih lica radi procesu</a:t>
            </a:r>
            <a:r>
              <a:rPr b="0" i="1" lang="en-US" sz="18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ranja preostalih slučajeva ratnih zločina, ali i za druge vrste zločin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BA" sz="1800" spc="-1" strike="noStrike">
                <a:solidFill>
                  <a:srgbClr val="ff0000"/>
                </a:solidFill>
                <a:latin typeface="Verdana"/>
              </a:rPr>
              <a:t>Bit će unaprijeđena transparentnost, odgovornost i proaktivan rad policije na slučajevima organiziranog kriminala, korupcije i terorizma koji vode obavještajni organi, te će se poboljšati proces vraćanja javnih sredstava</a:t>
            </a:r>
            <a:r>
              <a:rPr b="0" i="1" lang="en-GB" sz="1800" spc="-1" strike="noStrike">
                <a:solidFill>
                  <a:srgbClr val="ff0000"/>
                </a:solidFill>
                <a:latin typeface="Verdana"/>
              </a:rPr>
              <a:t>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09064a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7T15:10:38Z</dcterms:created>
  <dc:creator>HERRY Pascal (ELARG)</dc:creator>
  <dc:description/>
  <dc:language>en-US</dc:language>
  <cp:lastModifiedBy>operater</cp:lastModifiedBy>
  <cp:lastPrinted>2017-03-28T14:59:32Z</cp:lastPrinted>
  <dcterms:modified xsi:type="dcterms:W3CDTF">2017-03-30T14:03:39Z</dcterms:modified>
  <cp:revision>10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C1ACF183991F324A8C5B7AC362704265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